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ACF54-79E0-4925-BD20-27A454754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AF694-8C3C-492A-A3A4-410CCF91F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D57FA-A2CB-4CA1-B41C-3087537C5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E50C9-47C7-4F1A-958B-1D1E3BC8F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E48BA-DB73-49DC-B2D6-CF8175317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330EC-2D48-4F5E-AFBA-C6EBCFD42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1D2B9-8487-4874-A69A-6DFB97B89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3C32C-0099-44E5-828F-4CCC0F9DA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6BA14-A6C6-4B47-B425-6BCC692A4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D6F63-48BA-4429-93B2-09B92945F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3F0FB-7637-4CBD-89DD-16044561D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4DC56-FCB7-46F6-A867-208B3D956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74456-E258-4341-9E97-973DE638F5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2640" y="609480"/>
            <a:ext cx="80010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edicare Part B Therapy, 1998-2000: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rends in Utilization and Medicare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ayments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42640" y="2666880"/>
            <a:ext cx="80010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pared for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rry Kay, Dir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actitioner and Ambulatory Care Divis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enters for Medicare and Medicaid Services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ltimore, M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phanie Maxwell, Ph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rban Institu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0" y="0"/>
            <a:ext cx="1143000" cy="6858000"/>
            <a:chOff x="0" y="0"/>
            <a:chExt cx="1143000" cy="6858000"/>
          </a:xfrm>
        </p:grpSpPr>
        <p:sp>
          <p:nvSpPr>
            <p:cNvPr id="44" name=""/>
            <p:cNvSpPr/>
            <p:nvPr/>
          </p:nvSpPr>
          <p:spPr>
            <a:xfrm>
              <a:off x="0" y="0"/>
              <a:ext cx="1143000" cy="6858000"/>
            </a:xfrm>
            <a:prstGeom prst="rect">
              <a:avLst/>
            </a:prstGeom>
            <a:solidFill>
              <a:srgbClr val="00cc99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45" name=""/>
            <p:cNvGraphicFramePr/>
            <p:nvPr/>
          </p:nvGraphicFramePr>
          <p:xfrm>
            <a:off x="0" y="0"/>
            <a:ext cx="1143000" cy="11858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0"/>
                      <a:ext cx="1143000" cy="11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7" name=""/>
            <p:cNvSpPr/>
            <p:nvPr/>
          </p:nvSpPr>
          <p:spPr>
            <a:xfrm rot="5400000">
              <a:off x="-1297440" y="2552040"/>
              <a:ext cx="3732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THE URBAN INSTITUT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igure 1: Part B therapy patient average annual expenditures,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by setting, 1998-200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152280" y="838080"/>
          <a:ext cx="8428320" cy="553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838080"/>
                    <a:ext cx="8428320" cy="553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228600" y="6141960"/>
            <a:ext cx="7315200" cy="5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Note: OPD is outpatient department. SNF is skilled nursing facility. CORF is comprehensive outpatient rehabilitation facility.  Multiple settings refer to two or more Part B therapy setting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Source: Urban Institute analysis of 5 percent annual samples of Medicare claims, 1998-2000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igure 2: Part B therapy patient annual utilization, by setting, 1998-200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152280" y="838080"/>
          <a:ext cx="8428320" cy="553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838080"/>
                    <a:ext cx="8428320" cy="553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228600" y="6141960"/>
            <a:ext cx="7315200" cy="5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Note: OPD is outpatient department. SNF is skilled nursing facility. CORF is comprehensive outpatient rehabilitation facility.  Multiple settings refer to two or more Part B therapy setting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Source: Urban Institute analysis of 5 percent annual samples of Medicare claims, 1998-2000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6201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igure 3: Distribution of Part B therapy expenditures and patients, by setting, 200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117360" y="1525680"/>
          <a:ext cx="4378320" cy="355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7360" y="1525680"/>
                    <a:ext cx="4378320" cy="355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" name=""/>
          <p:cNvGraphicFramePr/>
          <p:nvPr/>
        </p:nvGraphicFramePr>
        <p:xfrm>
          <a:off x="4384800" y="1523880"/>
          <a:ext cx="4378320" cy="3554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84800" y="1523880"/>
                    <a:ext cx="4378320" cy="355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"/>
          <p:cNvSpPr/>
          <p:nvPr/>
        </p:nvSpPr>
        <p:spPr>
          <a:xfrm>
            <a:off x="915840" y="5638680"/>
            <a:ext cx="259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rt B therapy expenditu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278320" y="5638680"/>
            <a:ext cx="259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rt B therapy pat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28600" y="6141960"/>
            <a:ext cx="7315200" cy="5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Note: OPD is outpatient department. SNF is skilled nursing facility. CORF is comprehensive outpatient rehabilitation facility.  Multiple settings refer to two or more Part B therapy setting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Source: Urban Institute analysis of 5 percent annual samples of Medicare claims, 1998-2000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6201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igure 4: Distribution of Part B therapy patients exceeding $1,200 PT/SLP or $1,200 OT annual expenditures, by setting, 1998-200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38160" y="1109520"/>
          <a:ext cx="4076640" cy="2776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160" y="1109520"/>
                    <a:ext cx="4076640" cy="277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"/>
          <p:cNvSpPr/>
          <p:nvPr/>
        </p:nvSpPr>
        <p:spPr>
          <a:xfrm>
            <a:off x="228600" y="6141960"/>
            <a:ext cx="8686800" cy="5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Note: OPD is outpatient department. SNF is skilled nursing facility. CORF is comprehensive outpatient rehabilitation facility.  Multiple settings refer to two or more Part B therapy settings. PT is physical therapy. SLP is speech/language pathology services. OT is occupational therapy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Source: Urban Institute analysis of 5 percent annual samples of Medicare claims, 1998-2000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2440080" y="3505320"/>
          <a:ext cx="4075200" cy="2776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40080" y="3505320"/>
                    <a:ext cx="4075200" cy="277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" name=""/>
          <p:cNvGraphicFramePr/>
          <p:nvPr/>
        </p:nvGraphicFramePr>
        <p:xfrm>
          <a:off x="4878360" y="1143000"/>
          <a:ext cx="4075200" cy="2776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878360" y="1143000"/>
                    <a:ext cx="4075200" cy="277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" name=""/>
          <p:cNvSpPr/>
          <p:nvPr/>
        </p:nvSpPr>
        <p:spPr>
          <a:xfrm>
            <a:off x="1695600" y="403848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95720" y="297180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534000" y="396252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6201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igure 5: Percent of Part B therapy patients exceeding $1,200 PT/SLP or $1,200 OT annual expenditures, by setting, 1998-200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152280" y="838080"/>
          <a:ext cx="8428320" cy="553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838080"/>
                    <a:ext cx="8428320" cy="553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28600" y="6141960"/>
            <a:ext cx="8686800" cy="5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Note: OPD is outpatient department. SNF is skilled nursing facility. CORF is comprehensive outpatient rehabilitation facility.  Multiple settings refer to two or more Part B therapy settings. PT is physical therapy. SLP is speech/language pathology services. OT is occupational therapy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Source: Urban Institute analysis of 5 percent annual samples of Medicare claims, 1998-2000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6201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igure 6: Distribution of total PT/SLP expenditures of patients exceeding $1,200 PT/SLP annually, 1998-200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152280" y="838080"/>
          <a:ext cx="8428320" cy="553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838080"/>
                    <a:ext cx="8428320" cy="553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"/>
          <p:cNvSpPr/>
          <p:nvPr/>
        </p:nvSpPr>
        <p:spPr>
          <a:xfrm>
            <a:off x="228600" y="6276960"/>
            <a:ext cx="7315200" cy="5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Note: Figure includes patients using facility-based therapy.  PT is physical therapy. SLP is speech/language pathology service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Source: Urban Institute analysis of 5 percent annual samples of Medicare claims, 1998-2000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02T15:51:36Z</dcterms:created>
  <dc:creator>Matthew Storeygard</dc:creator>
  <dc:description/>
  <dc:language>en-US</dc:language>
  <cp:lastModifiedBy>CMS</cp:lastModifiedBy>
  <cp:lastPrinted>2001-11-12T15:07:12Z</cp:lastPrinted>
  <dcterms:modified xsi:type="dcterms:W3CDTF">2003-01-29T17:08:33Z</dcterms:modified>
  <cp:revision>64</cp:revision>
  <dc:subject/>
  <dc:title>Vulnerability Status by Age, 1996</dc:title>
</cp:coreProperties>
</file>